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663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774600" y="-360"/>
            <a:ext cx="28861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856800" y="742680"/>
            <a:ext cx="4954680" cy="371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9406080"/>
            <a:ext cx="288756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774600" y="9406080"/>
            <a:ext cx="28861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6E57CC80-2B4E-4B57-B4F7-4DEA195D9E1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85716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Keine Befassung mit den bi-lateralen internationalen Akteu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5F394-F989-4D72-90E6-7A8F01EA83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820728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4141800"/>
            <a:ext cx="820728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2FDFC-DD93-4D10-AA32-4815629F7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14180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414180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FA8C4-1A22-41E4-93F7-7D8BE6B6D7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61424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1424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414180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414180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414180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309A2-7D44-4325-A216-83EB4DEA1C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614240"/>
            <a:ext cx="82072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82072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684036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414180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14240"/>
            <a:ext cx="82072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B0466-EB51-4F6F-9B85-09DFDD3C01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414180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4141800"/>
            <a:ext cx="820728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820728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4141800"/>
            <a:ext cx="820728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414180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414180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61424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61424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414180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414180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414180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82072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D2D65-D13E-4F75-A5FF-8F47C17C1B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D402B-619A-406F-BFB3-226363EC2E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21DAB-AE4E-4BE2-833C-654DDD67F3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684036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74B80-1717-42CB-95E8-03E779B897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414180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F089E-CE64-4888-B3C5-28ADE3EDF3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414180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D05E8-6D01-4F76-B7AA-6FFCB7D404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4141800"/>
            <a:ext cx="820728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428AB-0869-4011-903B-3563777B42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614240"/>
            <a:ext cx="82072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1" marL="533520" indent="-17640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2" marL="89856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3" marL="125568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4" marL="161280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5" marL="161280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6" marL="161280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5763960" y="6619680"/>
            <a:ext cx="289692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4a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84F5-5565-4C99-8873-818C8659FAA0}" type="slidenum">
              <a:rPr b="0" lang="de-DE" sz="800" spc="-1" strike="noStrike">
                <a:solidFill>
                  <a:srgbClr val="004a78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247680"/>
            <a:ext cx="9144000" cy="1008000"/>
          </a:xfrm>
          <a:prstGeom prst="rect">
            <a:avLst/>
          </a:prstGeom>
          <a:solidFill>
            <a:srgbClr val="7c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63" descr=""/>
          <p:cNvPicPr/>
          <p:nvPr/>
        </p:nvPicPr>
        <p:blipFill>
          <a:blip r:embed="rId2"/>
          <a:stretch/>
        </p:blipFill>
        <p:spPr>
          <a:xfrm>
            <a:off x="7591320" y="549360"/>
            <a:ext cx="1228680" cy="42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9b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8"/>
          <p:cNvSpPr/>
          <p:nvPr/>
        </p:nvSpPr>
        <p:spPr>
          <a:xfrm>
            <a:off x="0" y="2205000"/>
            <a:ext cx="8663040" cy="423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1151" descr=""/>
          <p:cNvPicPr/>
          <p:nvPr/>
        </p:nvPicPr>
        <p:blipFill>
          <a:blip r:embed="rId2"/>
          <a:stretch/>
        </p:blipFill>
        <p:spPr>
          <a:xfrm>
            <a:off x="3851280" y="5532480"/>
            <a:ext cx="4680000" cy="758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68360" y="1614240"/>
            <a:ext cx="82072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1" marL="533520" indent="-17640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2" marL="89856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3" marL="125568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4" marL="161280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5" marL="161280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6" marL="161280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0728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lood Relief Credit Programme (FRCP)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hort overview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ctober 201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6200" y="2205000"/>
            <a:ext cx="8207640" cy="273672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a78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a78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5764320" y="6620040"/>
            <a:ext cx="289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DB87-9672-425F-A7EA-A2F7E2A90D31}" type="slidenum">
              <a:rPr b="0" lang="de-DE" sz="800" spc="-1" strike="noStrike">
                <a:solidFill>
                  <a:srgbClr val="004a7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FRCP- Phase 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82072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Contribution of EUR 2.5 million within the framework of the European Fund for Bosnia and Herzegovina (EFBH)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Channelled to the final beneficiaries hit by the flood through 2 Microfinance Institutions (Partner from Tuzla and Mikrofin from Banja Luka); each institution received EUR 1.25 million.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Effective as of end of June 2014, fully disbursed to final beneficiaries by end of Oct. 2014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Eligibility criteria for final beneficiaries: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Private, micro, small and medium sized enterprises, entrepreneurs and private households effected by the flooding 2014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Loans exclusively for refurbishment and damage recovery of business entities and households party and/or completely devastated by the floods.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Loans shall not exceed the amount of EUR 3000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Maturity 3 years with 6 months grace period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0% interest rate, no fees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1"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5764320" y="6620040"/>
            <a:ext cx="289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5508-9307-4226-B1D0-B1758DECAF99}" type="slidenum">
              <a:rPr b="0" lang="de-DE" sz="800" spc="-1" strike="noStrike">
                <a:solidFill>
                  <a:srgbClr val="004a7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FRCP- Phase I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82072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Contribution from the Federal Ministry for Economic Cooperation and Development (BMZ) amounting to EUR 5 million 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To be channelled to the final beneficiaries hit by the flood through 2 Microfinance Institutions (Partner from Tuzla and Mikrofin from Banja Luka)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Each institution will receive EUR 2.5 million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Risk coverage of up to 50% for any sub- loan and up to 15% of the loan amount in total.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Effective: 2nd half of October 2014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Eligibility criteria for final beneficiaries: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Private, micro, small and medium sized enterprises, entrepreneurs and private households effected by the flooding 2014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Loans exclusively for refurbishment and damage recovery of business entities and households party and/or completely devastated by the floods.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Loans shall not exceed the amount of EUR 3000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Maturity 3 years with 6 months grace period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0% interest rate, no fees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06:58Z</dcterms:created>
  <dc:creator>Heike Hartung</dc:creator>
  <dc:description/>
  <dc:language>en-US</dc:language>
  <cp:lastModifiedBy>operater</cp:lastModifiedBy>
  <dcterms:modified xsi:type="dcterms:W3CDTF">2014-10-09T14:04:48Z</dcterms:modified>
  <cp:revision>118</cp:revision>
  <dc:subject/>
  <dc:title>Präsentation</dc:title>
</cp:coreProperties>
</file>